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3533C-6FEE-41FA-B828-9190337B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02515-979B-4624-9E1C-6D3E527E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110DB-DECB-46F9-AF87-BEED8367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ED099-2576-4AA3-A7C5-427A6F27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E5F1F-A75C-41B7-AFFA-4E0DBF8C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F7430-14E0-47D7-96C6-8CBA74A2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9E06D-9C6D-42C6-BE40-DE69912D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7317F-8E9D-49DD-800C-4DD8043A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5C1B7-F831-4C3A-83EF-9CD12A0B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81E8C-905A-481B-86BB-5C0C9A83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C50C8-D031-447F-B3A3-8D6DDDB9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7CF67-3ABA-4211-AC20-410CE494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7DCBE-3B0C-4745-9639-1CA71C0F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D90FA-AFE3-46A4-87A8-A42244B9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A84E7-AF0B-4178-8AF2-CE8702D5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12F2F-EA96-4F3D-B984-B85CCDD6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4DDA4-FC47-49C9-B70B-F7D43DFC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5326E-7DE2-40E0-BA39-33C55829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42410-24F2-4200-8212-5DE3E9C2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E0039-E310-47BD-A7ED-8A2B0860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8CADC-BC63-4387-BF52-889CDB4C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C02CF-4CEF-4410-8028-93FD806B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95745-B890-45A3-AF1F-8D8C8D3C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75DBD-A38A-426F-8D7A-969A8C12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B048A-CE20-4890-A300-C9AE8AE4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38DE8-EC7E-4CD2-BC15-607F831B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153BC-A8F2-4BDA-B380-6F4556B1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4FF4D-0A65-4ADB-9094-90F9C437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3DF1F-FAAE-4E3F-90BB-2BB78C04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2D98C-9AB2-453A-A961-E0F05DE6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003D6-000C-4028-BD1F-02EFAA2E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52535-B8D7-4B8D-A253-F44B3C84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CDD48-269C-4A47-9295-DA21CC1F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01CA2-0E94-4824-8A2E-20DC9BBB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55C42-D52E-485E-A0E0-63FBD297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4C114-3810-4A66-9488-B5A6EB59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5D46C-10BA-4E3D-97AB-D8A43FE2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B5E2E-1FB3-4429-98C8-2D0EF128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FAF7E-F139-487B-A6A3-041BDEAD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6304D-ACA1-4D36-BE3C-17C635E0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4FF7C-F2F4-478F-9279-24754B22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A4E44-F719-4384-99C4-74BC51AB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A294F-F1EA-42B8-860D-353B868D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1E2D2-0B93-42FA-8329-38A11B18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1D2EC-5C11-4C9D-B79B-49228D58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595B9-5E3F-4D00-9B44-587F247C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6B521-4103-4D68-9398-D67F8B1C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2B199-C0B2-4676-9D96-36268D85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6F0F4-A395-49CC-8823-1F988AF1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EA199-3490-4646-A0C7-47E542FC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5A05D-8EF3-4EAD-A374-9638C0F3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02E26-115E-4E89-A8B4-93EDCA7E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FDFF5-9F9E-4761-9B57-32C86AAA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3B102-8CDC-41CE-9E75-C9CCB75A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69C9C-09FE-425E-BA69-4542BA14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EB29B-C8E9-4286-834A-F4866004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0B87D-6B18-4640-9226-3FE66842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BC9F2-6162-4083-A670-98C06626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3DFE2-3415-4F52-BA04-A1FE9B41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9BE40-1772-456A-9E82-CFD8BB26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9D5B9-4C23-42CA-A6E1-E1E0E073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3B7E7-EAC9-4FAE-BCF4-ABBF4875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75A20-14AC-46CC-8EE4-0C31AC22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6398B-7105-4612-9CED-2B929D59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81E54-E5B0-4FC4-9D9A-F46F519D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B5AA3-2C40-4EF3-A672-63F4F344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AABA1-FA2D-45FC-A24E-92A001B0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71C03-DF5E-4496-9CCB-807147E5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15977-CF8F-41EB-9319-7470535A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ABA673-1857-4EA5-BE89-864D6442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0703E0-1AC4-405B-8552-93002E7A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9F271B-1B48-4054-AE05-4F561228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7EC277-CDAC-4C16-B19B-C587A86C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B5792-F2DD-4B30-A0C3-4DE36DC1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3F018-DB90-463D-9769-F76E9E08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628455-B7F4-4825-B0FE-4C35F6D2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7709E3-D780-4C85-9ABC-EC080CFC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0C036-9FC1-47EA-9014-9C72AE03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A634D2-B241-48E4-9733-757FE60B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628EF-14D5-4353-A07C-A3AB4DFA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E2A38-1D86-41B5-81BE-B44D6777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81FDE-9D2D-413D-ABA5-46C02230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69A85-7DF1-40AA-9588-FC3D5255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2D052B-45D8-4CA3-A2D8-7B759428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BBC18F-F23C-4F15-9C82-73FAF976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ECD02-3DBE-4684-AF09-153F8445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A993C4-1CB0-48F0-94CF-D5359CA2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5C6280-8334-44BE-A94E-2BDFF32D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5298B0-F44A-45AF-B6ED-82124438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227BA7-3F27-445C-9F1F-D52AF2C9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308442-2BD0-45C9-904F-B28595BE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6506F2-251A-4C65-946F-ADB9BAEF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45BBD9-9066-4B49-B029-5D9920B5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638-E306-42DD-BE8A-8194D06F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FF7-D494-41A0-8BD4-FB22373A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4AB-14EC-4E5B-8454-82B68197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86D-24B3-4A70-B712-4B3600B9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4F5-FE74-4280-8627-7A261C76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C7F5-775A-4443-AC5F-A982FE1D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DCF-147A-4C30-86B3-DD0EB804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04A4-ACF0-4016-B51B-7B207500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E43-0CE7-46E0-AE8E-32A71F66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98D-7006-4903-B3A8-93C7DAC2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7731-1349-4E32-9C2B-BEFB7B25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30CE-4831-4BAD-9E90-D5350F69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EFAE-22E4-4363-823F-0858CF80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884B-2916-4BB6-A085-4F4997F1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3F02-DA7B-4200-893E-D0C616B1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D9DA-EF46-46F3-85F9-8627B258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53EA-A587-4C6E-AD28-3A6E6B64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FB7B-B540-42D0-A3B7-46AB29D9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DADB-08A2-4428-B877-3A6E5576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F954-6016-4094-B375-F3555847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E989-BC2A-4AC5-ABA7-749ABF42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AE01-EF74-444F-8DA1-0B5E41A7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4D12-491F-4F0B-A448-CD15B108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EC9A-2770-4F63-91A9-105A4909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3670C-A57A-4E6C-B702-36EC6C1A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5DBF5-4FD3-429B-AE8B-3C2DAE16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3AC4E-15C3-455F-A0D6-7AA2474A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9409F-10DA-451A-9359-0C253F27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80C9D-735C-4513-BE8D-2120F962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0110-34A0-4A0C-BDC3-926122E0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A47B6-FD75-41C0-BF3C-86276CF6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595E8-5120-4240-9545-2BB02726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5028C-5F9C-4EEA-A266-AED3BEB1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ACD0F-0C74-43E1-8C68-EC746E86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FF99C-6053-4CB8-8FCB-27A32E03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B41E7-3B6B-4BB4-993D-625F21A9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4873C-94A1-4D48-848D-FE662375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6F5C8-FB7C-4ED3-92EB-1C533B4F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922D7-AA35-4578-B230-970D53AB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183C0-3ABA-46E9-B53A-AA06FD55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3620E-655F-47F8-9D7E-6D2C2EF8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29EA6-6547-4F3D-A318-39B16325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FA661-2A31-47D8-9508-DE619FEA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3D402-9603-423B-8BD3-CAFDB4C8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C188C-3BB5-43D7-906A-B7E862C4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67D06-D922-43EA-921C-D66B808D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754B8-BFA9-4125-9D39-DBD0887E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D9686-442C-4942-AA70-E64BFB49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89A99-808E-4E2B-AFAC-2D3E4B2D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AEE8A-BA3C-4183-B0FF-6A840B1F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64436-9763-47ED-B805-9B4695EE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1646E-B441-4BBD-A88E-2732FFB8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DC921-BD3E-4215-83C8-EC44B4E7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CE3CB-4AD4-433B-A71F-6B3E81C9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D7827-1E0B-40FA-9681-5D6D1DF8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369E3-6A58-4217-A2B1-80D407F7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64604-137E-4ECC-B3F9-72CD6FC3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14248-95B0-4D89-91AF-D3496BCD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50EE3-B042-44A0-83A5-5D98CDA0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40CE0-B38B-4288-AB72-C3A1B0DB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B09EE-E1F9-44FF-8C73-46938858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418D9-B535-4642-8AE0-DA375672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D0D29-1C91-47EE-B9DE-E7E299F9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49B6D-C9DB-49A3-9343-2BACF82B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80EB9-E518-48D4-9D93-29EDA884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DA375-091A-4450-9BA3-F4C85A8C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8AB99-7C42-434B-BB68-17EC48BB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98899-C8B8-49EC-9D64-EA68B039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91293-8ED3-48A7-A7E1-1DFA2223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72C20-B8EE-4D8E-BBDA-D738469E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CE50E-B3B4-4739-ABA9-C9BDAA0E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2E3B0-5432-4B1F-90BA-3F001F4D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7E92E-CBEB-42AA-8DE8-D3DE1C24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C9993-EC61-496D-82B7-16A51915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7520D-B938-4164-9E49-BC8FB7FA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E532-75FA-4263-95E0-AC1645CFD9D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182F-ECAB-4BB3-BDE8-7010796735C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60A6-D216-4C08-B7EC-39F6605436F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31C7-9AB9-4ED6-B5B8-56710F0EC6C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56E0-B286-487E-8CFD-5B2F8BA0E09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4BBC-08A5-450B-8999-A91762D91E1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7A7E-C553-475F-92B5-9D3C7C01066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B3D5B-56F1-4C7E-B33C-4745E42893B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57D0-A284-4390-891C-973D3E82209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8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9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ABD4-65AF-4DF7-8C1A-7E8A755BCDF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99EB-1CFA-4C2D-89D8-8A429490256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CEAB-D0AD-417F-8EB1-66818CEF3B7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4498-8D28-428E-8E54-F20DB4D81BC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637D-CA60-425F-936D-C756709B2E9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64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49" name="TextBox 3"/>
          <p:cNvSpPr/>
          <p:nvPr/>
        </p:nvSpPr>
        <p:spPr>
          <a:xfrm>
            <a:off x="495360" y="125100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位置（二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二     位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652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654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5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6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7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8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59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0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661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703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705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6" name="矩形 12" descr=""/>
          <p:cNvPicPr/>
          <p:nvPr/>
        </p:nvPicPr>
        <p:blipFill>
          <a:blip r:embed="rId4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1233360" y="1990800"/>
            <a:ext cx="6867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运用平移及数对知识解决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运用数对知识解决位置问题的应用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664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8"/>
          <p:cNvSpPr/>
          <p:nvPr/>
        </p:nvSpPr>
        <p:spPr>
          <a:xfrm>
            <a:off x="1058760" y="1360440"/>
            <a:ext cx="72723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选择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：李林家的位置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学校的位置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如果每个小正方形的边长表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李林从家出发，经过学校到少年宫，至少要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组合 1"/>
          <p:cNvGrpSpPr/>
          <p:nvPr/>
        </p:nvGrpSpPr>
        <p:grpSpPr>
          <a:xfrm>
            <a:off x="595440" y="981000"/>
            <a:ext cx="2809800" cy="668520"/>
            <a:chOff x="595440" y="981000"/>
            <a:chExt cx="2809800" cy="668520"/>
          </a:xfrm>
        </p:grpSpPr>
        <p:sp>
          <p:nvSpPr>
            <p:cNvPr id="669" name="圆角矩形 13"/>
            <p:cNvSpPr/>
            <p:nvPr/>
          </p:nvSpPr>
          <p:spPr>
            <a:xfrm>
              <a:off x="1479600" y="109368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文本框 13"/>
            <p:cNvSpPr/>
            <p:nvPr/>
          </p:nvSpPr>
          <p:spPr>
            <a:xfrm>
              <a:off x="1479600" y="108108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98100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矩形 9"/>
          <p:cNvSpPr/>
          <p:nvPr/>
        </p:nvSpPr>
        <p:spPr>
          <a:xfrm>
            <a:off x="3133800" y="284472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3" name="Picture 5" descr=""/>
          <p:cNvPicPr/>
          <p:nvPr/>
        </p:nvPicPr>
        <p:blipFill>
          <a:blip r:embed="rId2"/>
          <a:stretch/>
        </p:blipFill>
        <p:spPr>
          <a:xfrm>
            <a:off x="2916360" y="3112920"/>
            <a:ext cx="24588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6" descr=""/>
          <p:cNvPicPr/>
          <p:nvPr/>
        </p:nvPicPr>
        <p:blipFill>
          <a:blip r:embed="rId1"/>
          <a:stretch/>
        </p:blipFill>
        <p:spPr>
          <a:xfrm>
            <a:off x="2987640" y="2550960"/>
            <a:ext cx="3108240" cy="34578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8"/>
          <p:cNvSpPr/>
          <p:nvPr/>
        </p:nvSpPr>
        <p:spPr>
          <a:xfrm>
            <a:off x="684360" y="1052640"/>
            <a:ext cx="788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在下图中写出三角形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两个顶点的位置，将三角形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向下平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方格后得到三角形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′B′C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三角形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′B′C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各顶点的位置表示为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，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，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，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矩形 14"/>
          <p:cNvSpPr/>
          <p:nvPr/>
        </p:nvSpPr>
        <p:spPr>
          <a:xfrm>
            <a:off x="4956120" y="26622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矩形 7"/>
          <p:cNvSpPr/>
          <p:nvPr/>
        </p:nvSpPr>
        <p:spPr>
          <a:xfrm>
            <a:off x="3525840" y="266544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矩形 8"/>
          <p:cNvSpPr/>
          <p:nvPr/>
        </p:nvSpPr>
        <p:spPr>
          <a:xfrm>
            <a:off x="2341440" y="208584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矩形 9"/>
          <p:cNvSpPr/>
          <p:nvPr/>
        </p:nvSpPr>
        <p:spPr>
          <a:xfrm>
            <a:off x="3819600" y="208584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5305320" y="209232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8"/>
          <p:cNvSpPr/>
          <p:nvPr/>
        </p:nvSpPr>
        <p:spPr>
          <a:xfrm>
            <a:off x="781200" y="933480"/>
            <a:ext cx="7400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如图是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班学生的座位图。明明原来在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列最后一排，由于视力下降，老师把他的座位向前调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行，但由于身高影响了后面同学的视线，老师又把他向右移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列，请在方格纸上描出最后一次明明的位置，并用数对表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2095560" cy="3124080"/>
          </a:xfrm>
          <a:prstGeom prst="rect">
            <a:avLst/>
          </a:prstGeom>
          <a:ln w="0">
            <a:noFill/>
          </a:ln>
        </p:spPr>
      </p:pic>
      <p:sp>
        <p:nvSpPr>
          <p:cNvPr id="683" name="矩形 6"/>
          <p:cNvSpPr/>
          <p:nvPr/>
        </p:nvSpPr>
        <p:spPr>
          <a:xfrm>
            <a:off x="3851280" y="335772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图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8"/>
          <p:cNvSpPr/>
          <p:nvPr/>
        </p:nvSpPr>
        <p:spPr>
          <a:xfrm>
            <a:off x="658800" y="981000"/>
            <a:ext cx="788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1120" indent="-411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养殖基地一观测者测得一只麋鹿的位置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，测得这只奔跑的麋鹿的位置已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下图中分别标出这只麋鹿两次所在的位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矩形 9"/>
          <p:cNvSpPr/>
          <p:nvPr/>
        </p:nvSpPr>
        <p:spPr>
          <a:xfrm>
            <a:off x="3433680" y="55767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tretch/>
        </p:blipFill>
        <p:spPr>
          <a:xfrm>
            <a:off x="2560680" y="2421000"/>
            <a:ext cx="3163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矩形 9"/>
          <p:cNvSpPr/>
          <p:nvPr/>
        </p:nvSpPr>
        <p:spPr>
          <a:xfrm>
            <a:off x="2340000" y="5348160"/>
            <a:ext cx="54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)×15÷1.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0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千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时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答：这只麋鹿每小时大约跑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0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千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8"/>
          <p:cNvSpPr/>
          <p:nvPr/>
        </p:nvSpPr>
        <p:spPr>
          <a:xfrm>
            <a:off x="658800" y="981000"/>
            <a:ext cx="788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1120" indent="-411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养殖基地一观测者测得一只麋鹿的位置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，测得这只奔跑的麋鹿的位置已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上图中每个小方格的边长代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，这只麋鹿每小时大约跑多少千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2627280" y="2411280"/>
            <a:ext cx="316548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8"/>
          <p:cNvSpPr/>
          <p:nvPr/>
        </p:nvSpPr>
        <p:spPr>
          <a:xfrm>
            <a:off x="1044720" y="1576440"/>
            <a:ext cx="777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在一张方格纸上有一个长方形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请你完成下面的问题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数对表示图中长方形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四个顶点的位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1" name="组合 1"/>
          <p:cNvGrpSpPr/>
          <p:nvPr/>
        </p:nvGrpSpPr>
        <p:grpSpPr>
          <a:xfrm>
            <a:off x="595440" y="907920"/>
            <a:ext cx="2809800" cy="668520"/>
            <a:chOff x="595440" y="907920"/>
            <a:chExt cx="2809800" cy="668520"/>
          </a:xfrm>
        </p:grpSpPr>
        <p:sp>
          <p:nvSpPr>
            <p:cNvPr id="692" name="圆角矩形 11"/>
            <p:cNvSpPr/>
            <p:nvPr/>
          </p:nvSpPr>
          <p:spPr>
            <a:xfrm>
              <a:off x="1479600" y="102060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文本框 13"/>
            <p:cNvSpPr/>
            <p:nvPr/>
          </p:nvSpPr>
          <p:spPr>
            <a:xfrm>
              <a:off x="1479600" y="100800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90792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5" name="矩形 12"/>
          <p:cNvSpPr/>
          <p:nvPr/>
        </p:nvSpPr>
        <p:spPr>
          <a:xfrm>
            <a:off x="1630440" y="5589720"/>
            <a:ext cx="6089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10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4724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矩形 12"/>
          <p:cNvSpPr/>
          <p:nvPr/>
        </p:nvSpPr>
        <p:spPr>
          <a:xfrm>
            <a:off x="1474920" y="5373720"/>
            <a:ext cx="6553080" cy="1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图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Rectangle 8"/>
          <p:cNvSpPr/>
          <p:nvPr/>
        </p:nvSpPr>
        <p:spPr>
          <a:xfrm>
            <a:off x="826920" y="907920"/>
            <a:ext cx="7775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在一张方格纸上有一个长方形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请你完成下面的问题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把长方形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向下平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格，画出平移后的图形，并用数对表示平移后的长方形的四个顶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位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Picture 10" descr=""/>
          <p:cNvPicPr/>
          <p:nvPr/>
        </p:nvPicPr>
        <p:blipFill>
          <a:blip r:embed="rId1"/>
          <a:stretch/>
        </p:blipFill>
        <p:spPr>
          <a:xfrm>
            <a:off x="1403280" y="1392120"/>
            <a:ext cx="47246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相忘于江湖</cp:lastModifiedBy>
  <dcterms:modified xsi:type="dcterms:W3CDTF">2018-01-07T03:36:20Z</dcterms:modified>
  <cp:revision>1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